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377-1F6B-47FD-835F-28B82D8E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079-AA28-43B7-9AF5-58697227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0EE-156B-4606-AEBF-90224FA8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5D3-40F3-438C-B179-680B7CBD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FCC-2FB7-4D4A-8FEF-1F75D9DF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53D-DF5C-4A2F-BEEA-1B0E8C33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116-99A5-4677-8E51-3B72BAC9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183-C2EF-47DA-96B1-E314E9B2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B7E-4300-4B7D-A60E-419E37B0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B34-6ABA-4FA0-A8FA-944C26E1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7EE-4EEA-4823-8F6F-E767C791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726-DE84-45C0-884C-A3CF801F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A379-19F1-40B8-BF4E-87ECA7381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efortvet.ru/animaloterapiya" TargetMode="External"/><Relationship Id="rId2" Type="http://schemas.openxmlformats.org/officeDocument/2006/relationships/hyperlink" Target="http://55med.ru/articles/5680.html" TargetMode="External"/><Relationship Id="rId3" Type="http://schemas.openxmlformats.org/officeDocument/2006/relationships/hyperlink" Target="http://www.smorodinka.net/ukrepit-imunnuju-sistemu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39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 Black"/>
              </a:rPr>
              <a:t>Здоровье </a:t>
            </a:r>
            <a:br>
              <a:rPr sz="5400"/>
            </a:br>
            <a:r>
              <a:rPr b="1" lang="ru-RU" sz="5400" spc="-1" strike="noStrike">
                <a:solidFill>
                  <a:srgbClr val="00b050"/>
                </a:solidFill>
                <a:latin typeface="Arial Black"/>
              </a:rPr>
              <a:t>в «наших лапа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8672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Работу 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ученица 8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Марукян Кн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Попутникова Н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228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МБОУ «Муханов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809880" y="6141960"/>
            <a:ext cx="129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F:\0_51c6d_7bb95a57_L.jpg"/>
          <p:cNvPicPr/>
          <p:nvPr/>
        </p:nvPicPr>
        <p:blipFill>
          <a:blip r:embed="rId1"/>
          <a:stretch/>
        </p:blipFill>
        <p:spPr>
          <a:xfrm>
            <a:off x="533520" y="2940120"/>
            <a:ext cx="468792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gajjdn-serenada-andante-cantabile-(mp3-crazy.com)" descr=""/>
          <p:cNvPicPr/>
          <p:nvPr/>
        </p:nvPicPr>
        <p:blipFill>
          <a:blip r:embed="rId2"/>
          <a:stretch/>
        </p:blipFill>
        <p:spPr>
          <a:xfrm>
            <a:off x="533520" y="632448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Дельфино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3880" y="1371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Общение с дельфинами помогает  стабилизировать психоэмоциональное состояние человека, снять психологическое напряжение. Пациенты дельфинов - предприниматели, люди творческих професс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дети с заболеваниями нервной системы - аутизмом, ДЦП, олигофренией, синдром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Дау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http://lefortvet.ru/d/113938/d/2366671_5.jpg"/>
          <p:cNvPicPr/>
          <p:nvPr/>
        </p:nvPicPr>
        <p:blipFill>
          <a:blip r:embed="rId1"/>
          <a:stretch/>
        </p:blipFill>
        <p:spPr>
          <a:xfrm>
            <a:off x="38160" y="2341440"/>
            <a:ext cx="1590480" cy="2506680"/>
          </a:xfrm>
          <a:prstGeom prst="rect">
            <a:avLst/>
          </a:prstGeom>
          <a:ln w="0">
            <a:noFill/>
          </a:ln>
        </p:spPr>
      </p:pic>
      <p:pic>
        <p:nvPicPr>
          <p:cNvPr id="79" name="Объект 3" descr=""/>
          <p:cNvPicPr/>
          <p:nvPr/>
        </p:nvPicPr>
        <p:blipFill>
          <a:blip r:embed="rId2"/>
          <a:stretch/>
        </p:blipFill>
        <p:spPr>
          <a:xfrm>
            <a:off x="6480" y="4911840"/>
            <a:ext cx="2889000" cy="19461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"/>
          <p:cNvPicPr/>
          <p:nvPr/>
        </p:nvPicPr>
        <p:blipFill>
          <a:blip r:embed="rId3"/>
          <a:stretch/>
        </p:blipFill>
        <p:spPr>
          <a:xfrm>
            <a:off x="0" y="274680"/>
            <a:ext cx="2473200" cy="185904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68360" y="151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О дельфинах всем извес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Нет животных интерес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Острый ум, движенья л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И легки для дресси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Н. Матю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11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Гирудотерап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764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Пиявка за много тысячелетий "присосалась" практически ко всем областям  медицины. Она дает потрясающие результаты в кардиологии, офтальмологии, дерматологии, хирургии, гинекологии, урологии, неврологии. В последнее время при помощи пиявок лечат целлюлит, худеют и даже омолаживаются. Секрет лечебного действия пиявок в способности их слюны проникать глубоко в ткани организма и воздействовать на болезнь на клеточн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http://lefortvet.ru/d/113938/d/2366498_5.jpg"/>
          <p:cNvPicPr/>
          <p:nvPr/>
        </p:nvPicPr>
        <p:blipFill>
          <a:blip r:embed="rId1"/>
          <a:stretch/>
        </p:blipFill>
        <p:spPr>
          <a:xfrm>
            <a:off x="0" y="525780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2171880" cy="1401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"/>
          <p:cNvPicPr/>
          <p:nvPr/>
        </p:nvPicPr>
        <p:blipFill>
          <a:blip r:embed="rId3"/>
          <a:stretch/>
        </p:blipFill>
        <p:spPr>
          <a:xfrm>
            <a:off x="33480" y="35053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0" y="172872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0" y="2895480"/>
            <a:ext cx="1407960" cy="2000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Апитерап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7948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Пчела является  несомненным лидером в лечебной фауне. За 50 миллионов эти насекомые приспосабливались к жизни в самых разных климатических условиях, что привело к созданию уникального пчелиного яда. Чудо пчелиного яда в том, что это мощнейший катализатор физиологических процессов. Одна капля содержит белковые        вещества, 18 из 20 обязательных аминокислот, неорганические кислоты, почти всю таблицу Менделеева и витам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http://lefortvet.ru/d/113938/d/2366201_5.jpg"/>
          <p:cNvPicPr/>
          <p:nvPr/>
        </p:nvPicPr>
        <p:blipFill>
          <a:blip r:embed="rId2"/>
          <a:stretch/>
        </p:blipFill>
        <p:spPr>
          <a:xfrm>
            <a:off x="0" y="5562720"/>
            <a:ext cx="140796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131616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17640" y="3240"/>
            <a:ext cx="912636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152280" y="22860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Пчелы своим весёлым жужжанием оживляют сады и поля и делают приятною жизн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И. Дзерж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08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7621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 Black"/>
              </a:rPr>
              <a:t>Домашние питомцы – не только полноправные члены многих семей, но и настоящие терапевты. Как было замечено, люди живущие под одной крышей с домашними животными, гораздо реже болеют. Кроме того,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все живые существа могут оказать человеку эффективную  психологическую помощь. Достаточно поговорить со своим питомцем, чтобы стало легче и спокойнее на душе. Поэтому мы должны относится к братьям нашим меньшим с любовью и уважение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-2376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700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765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http://lefortvet.ru/animaloterapiya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- лефортвет, статья про анималотерап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http://55med.ru/articles/5680.html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- 55мед, статья «Животные вместо табле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http://www.smorodinka.net/ukrepit-imunnuju-sistemu.html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-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Смородинка, статья «Заведите    себе домашних живот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76520" y="2286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     </a:t>
            </a:r>
            <a:r>
              <a:rPr b="0" lang="ru-RU" sz="4000" spc="-1" strike="noStrike">
                <a:solidFill>
                  <a:srgbClr val="00b050"/>
                </a:solidFill>
                <a:latin typeface="Arial Black"/>
              </a:rPr>
              <a:t>Животные - очень милые друзья: не задают вопросов и не критику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Джордж Элли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503712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Arial Black"/>
              </a:rPr>
              <a:t>Анималотерап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Arial Black"/>
              </a:rPr>
              <a:t>Человек приручил животных с незапамятных времён! Они и сейчас остаются нашими верными друзьями! Известно, что домашние животные часто становятся настоящими целителями для человека, и их влияние на наше здоровье не ограничивается получением положительных эмоций. Сегодня разработана и успешно применяется целая система лечения людей при помощи  животных – анималотерапия  (лат. «animal» – животное). Общение с «братьями нашими меньшими» благотворно влияет на психику     человека и здоровь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http://festival.1september.ru/articles/627376/Image62.jpg"/>
          <p:cNvPicPr/>
          <p:nvPr/>
        </p:nvPicPr>
        <p:blipFill>
          <a:blip r:embed="rId1"/>
          <a:stretch/>
        </p:blipFill>
        <p:spPr>
          <a:xfrm>
            <a:off x="0" y="792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http://lefortvet.ru/d/113938/d/2366179_5.jpg"/>
          <p:cNvPicPr/>
          <p:nvPr/>
        </p:nvPicPr>
        <p:blipFill>
          <a:blip r:embed="rId2"/>
          <a:stretch/>
        </p:blipFill>
        <p:spPr>
          <a:xfrm>
            <a:off x="0" y="167652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http://lefortvet.ru/d/113938/d/2366754_5.jpg"/>
          <p:cNvPicPr/>
          <p:nvPr/>
        </p:nvPicPr>
        <p:blipFill>
          <a:blip r:embed="rId3"/>
          <a:stretch/>
        </p:blipFill>
        <p:spPr>
          <a:xfrm>
            <a:off x="0" y="325908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http://lefortvet.ru/d/113938/d/2366748_5.jpg"/>
          <p:cNvPicPr/>
          <p:nvPr/>
        </p:nvPicPr>
        <p:blipFill>
          <a:blip r:embed="rId4"/>
          <a:stretch/>
        </p:blipFill>
        <p:spPr>
          <a:xfrm>
            <a:off x="244440" y="4782960"/>
            <a:ext cx="1584360" cy="207504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http://lefortvet.ru/d/113938/d/2366744_5.jpg"/>
          <p:cNvPicPr/>
          <p:nvPr/>
        </p:nvPicPr>
        <p:blipFill>
          <a:blip r:embed="rId1"/>
          <a:stretch/>
        </p:blipFill>
        <p:spPr>
          <a:xfrm>
            <a:off x="25560" y="4495680"/>
            <a:ext cx="2031840" cy="2362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4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Фелино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8380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Это мягкое и деликатное лечение, как сами кошки. Эти мурлыкающие создания делают приятнее нахождение дома, успокаивают, снижают артериальное давление, нормализуют работу сердца, снимают боли (головную, суставную), способны воздействовать на ранки и травмы, от чего они быстрее заживляются, кошки повышают иммунитет, а также лечат воспалительные заболе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http://lefortvet.ru/d/113938/d/2366745_5.jpg"/>
          <p:cNvPicPr/>
          <p:nvPr/>
        </p:nvPicPr>
        <p:blipFill>
          <a:blip r:embed="rId2"/>
          <a:stretch/>
        </p:blipFill>
        <p:spPr>
          <a:xfrm>
            <a:off x="14400" y="2311560"/>
            <a:ext cx="2057400" cy="2162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http://lefortvet.ru/d/113938/d/2366747_5.jpg"/>
          <p:cNvPicPr/>
          <p:nvPr/>
        </p:nvPicPr>
        <p:blipFill>
          <a:blip r:embed="rId3"/>
          <a:stretch/>
        </p:blipFill>
        <p:spPr>
          <a:xfrm>
            <a:off x="0" y="0"/>
            <a:ext cx="2057400" cy="231156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867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584280" y="152280"/>
            <a:ext cx="7886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Кошек не любит только тот, кто ещё не встретил свою ко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Дебора А. Эдвард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7080" y="1157400"/>
            <a:ext cx="7874280" cy="55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Собака снимает приступы мигрени, восстанавливает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человеку душевный комфорт, понижает давление, а также является профилактикой гиподинамии. И даже ВИЧ-инфицированные в присутствии 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этих животных справляются со своими психологическими проблемами значительно лучше. Кроме того, «хвостатый доктор» лечит на расстоян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144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Канис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http://lefortvet.ru/d/113938/d/2366196_5.jpg"/>
          <p:cNvPicPr/>
          <p:nvPr/>
        </p:nvPicPr>
        <p:blipFill>
          <a:blip r:embed="rId1"/>
          <a:stretch/>
        </p:blipFill>
        <p:spPr>
          <a:xfrm>
            <a:off x="-17640" y="1905120"/>
            <a:ext cx="268452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http://lefortvet.ru/d/113938/d/2366753_5.jpg"/>
          <p:cNvPicPr/>
          <p:nvPr/>
        </p:nvPicPr>
        <p:blipFill>
          <a:blip r:embed="rId2"/>
          <a:stretch/>
        </p:blipFill>
        <p:spPr>
          <a:xfrm>
            <a:off x="14400" y="4038480"/>
            <a:ext cx="2000160" cy="2540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http://lefortvet.ru/d/113938/d/2366751_5.jpg"/>
          <p:cNvPicPr/>
          <p:nvPr/>
        </p:nvPicPr>
        <p:blipFill>
          <a:blip r:embed="rId3"/>
          <a:stretch/>
        </p:blipFill>
        <p:spPr>
          <a:xfrm>
            <a:off x="-17640" y="14400"/>
            <a:ext cx="2151360" cy="18907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-36360" y="0"/>
            <a:ext cx="601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Лучшее, что есть у человека, - это соб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Туссен Никола Шар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Иппо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58520" y="1143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Иппотерапию используют при нарушениях опорно-двигательного аппарата, атеросклерозе, черепно-мозговых травмах, полиомиелите, желудочно-кишечных заболеваниях, простатите, сколиозе, умственной отсталости. Общение с лошадью дает устойчивый положительный эмоциональный фон, котор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сам по себе является целеб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http://lefortvet.ru/d/113938/d/2366660_5.jpg"/>
          <p:cNvPicPr/>
          <p:nvPr/>
        </p:nvPicPr>
        <p:blipFill>
          <a:blip r:embed="rId1"/>
          <a:stretch/>
        </p:blipFill>
        <p:spPr>
          <a:xfrm>
            <a:off x="17640" y="15228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://lefortvet.ru/d/113938/d/2366752_5.jpg"/>
          <p:cNvPicPr/>
          <p:nvPr/>
        </p:nvPicPr>
        <p:blipFill>
          <a:blip r:embed="rId2"/>
          <a:stretch/>
        </p:blipFill>
        <p:spPr>
          <a:xfrm>
            <a:off x="17640" y="26668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http://lefortvet.ru/d/113938/d/2366184_5.jpg"/>
          <p:cNvPicPr/>
          <p:nvPr/>
        </p:nvPicPr>
        <p:blipFill>
          <a:blip r:embed="rId3"/>
          <a:stretch/>
        </p:blipFill>
        <p:spPr>
          <a:xfrm>
            <a:off x="0" y="49528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0948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Мало на свете людей, которые могут сказать, что лошадь в их судьбе не сыграла никакой 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У. Фолк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мвидео</cp:lastModifiedBy>
  <dcterms:modified xsi:type="dcterms:W3CDTF">2016-03-23T21:15:5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